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97CD5-348E-4208-9DF0-59F60045090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0CD7-52A7-454B-8D65-92041D0E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56156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AE8F-84B0-4DF0-9530-2A00BD9A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CB5-0824-4B60-B610-B63A984A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C22-58A7-4B34-8A38-B61B0291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8E4-069C-4FE0-9314-177AF2A4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902-0685-4640-8887-1D6C53A3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67C-7923-4E04-87A7-C0E52E0A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0CB-6FA6-41B3-BF8A-475F6513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18C-15D0-4248-BBA4-E92C8D1D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290-1717-45A6-99B1-02151F61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D3D-B5E8-42DC-B8A1-C520946A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7D7-EB33-45BD-9D4E-4C623B68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43E99-D032-4070-A1CA-36F11C50DCA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sk.com/" TargetMode="External"/><Relationship Id="rId3" Type="http://schemas.openxmlformats.org/officeDocument/2006/relationships/hyperlink" Target="http://www.answer.com/" TargetMode="External"/><Relationship Id="rId4" Type="http://schemas.openxmlformats.org/officeDocument/2006/relationships/hyperlink" Target="http://www.kidwiz.com/" TargetMode="External"/><Relationship Id="rId5" Type="http://schemas.openxmlformats.org/officeDocument/2006/relationships/hyperlink" Target="http://www.nationalgeoghaphic.com/" TargetMode="External"/><Relationship Id="rId6" Type="http://schemas.openxmlformats.org/officeDocument/2006/relationships/hyperlink" Target="http://www.hurricanes.com/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72036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urrican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979640"/>
            <a:ext cx="826596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d by: Landrum Drama que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543800" cy="3886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7315200"/>
            <a:ext cx="457200" cy="244440"/>
          </a:xfrm>
          <a:prstGeom prst="roundRect">
            <a:avLst>
              <a:gd name="adj" fmla="val 64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6629400"/>
            <a:ext cx="144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9640" y="72036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urricane form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1979640"/>
            <a:ext cx="82803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4800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7148520"/>
            <a:ext cx="457200" cy="411120"/>
          </a:xfrm>
          <a:prstGeom prst="roundRect">
            <a:avLst>
              <a:gd name="adj" fmla="val 38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3040" y="6629400"/>
            <a:ext cx="17136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72036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n was the first hurrican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1520" y="1979280"/>
            <a:ext cx="4040280" cy="45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Hurricane hit in pilgrims in 1635.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99640" y="1979280"/>
            <a:ext cx="4040280" cy="450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7315200"/>
            <a:ext cx="457200" cy="200160"/>
          </a:xfrm>
          <a:prstGeom prst="roundRect">
            <a:avLst>
              <a:gd name="adj" fmla="val 79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6286680"/>
            <a:ext cx="171360" cy="342720"/>
          </a:xfrm>
          <a:custGeom>
            <a:avLst/>
            <a:gdLst>
              <a:gd name="textAreaLeft" fmla="*/ 360 w 171360"/>
              <a:gd name="textAreaRight" fmla="*/ 171000 w 171360"/>
              <a:gd name="textAreaTop" fmla="*/ 360 h 342720"/>
              <a:gd name="textAreaBottom" fmla="*/ 342360 h 342720"/>
            </a:gdLst>
            <a:ahLst/>
            <a:rect l="textAreaLeft" t="textAreaTop" r="textAreaRight" b="textAreaBottom"/>
            <a:pathLst>
              <a:path w="21600" h="43155">
                <a:moveTo>
                  <a:pt x="200" y="0"/>
                </a:moveTo>
                <a:arcTo wR="200" hR="200" stAng="16200000" swAng="-5400000"/>
                <a:lnTo>
                  <a:pt x="0" y="42955"/>
                </a:lnTo>
                <a:arcTo wR="200" hR="200" stAng="10800000" swAng="-5400000"/>
                <a:lnTo>
                  <a:pt x="21400" y="43155"/>
                </a:lnTo>
                <a:arcTo wR="200" hR="200" stAng="5400000" swAng="-5400000"/>
                <a:lnTo>
                  <a:pt x="21600" y="200"/>
                </a:lnTo>
                <a:arcTo wR="200" hR="2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can people start a pla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1979280"/>
            <a:ext cx="45864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7880" indent="-67788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can start a plan by early planing and  buy enough food for the hurricanes.    They use gas for cook f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943600" y="4114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943600" y="1600200"/>
            <a:ext cx="297180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2880" y="7559640"/>
            <a:ext cx="273240" cy="473040"/>
          </a:xfrm>
          <a:custGeom>
            <a:avLst/>
            <a:gdLst>
              <a:gd name="textAreaLeft" fmla="*/ 360 w 273240"/>
              <a:gd name="textAreaRight" fmla="*/ 272880 w 273240"/>
              <a:gd name="textAreaTop" fmla="*/ 360 h 473040"/>
              <a:gd name="textAreaBottom" fmla="*/ 472680 h 473040"/>
            </a:gdLst>
            <a:ahLst/>
            <a:rect l="textAreaLeft" t="textAreaTop" r="textAreaRight" b="textAreaBottom"/>
            <a:pathLst>
              <a:path w="21600" h="37374">
                <a:moveTo>
                  <a:pt x="125" y="0"/>
                </a:moveTo>
                <a:arcTo wR="125" hR="125" stAng="16200000" swAng="-5400000"/>
                <a:lnTo>
                  <a:pt x="0" y="37249"/>
                </a:lnTo>
                <a:arcTo wR="125" hR="125" stAng="10800000" swAng="-5400000"/>
                <a:lnTo>
                  <a:pt x="21475" y="37374"/>
                </a:lnTo>
                <a:arcTo wR="125" hR="125" stAng="5400000" swAng="-5400000"/>
                <a:lnTo>
                  <a:pt x="21600" y="125"/>
                </a:lnTo>
                <a:arcTo wR="125" hR="125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6694560"/>
            <a:ext cx="228600" cy="65160"/>
          </a:xfrm>
          <a:prstGeom prst="roundRect">
            <a:avLst>
              <a:gd name="adj" fmla="val 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587520"/>
            <a:ext cx="827568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many days can a hurricane last 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99640" y="1979640"/>
            <a:ext cx="4038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1120" indent="-68112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rricane John was the longest hurricane in 1994 it lasted 31 day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0440" y="197964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1120" indent="-68112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hortest hurricane was in 1978 it lasted 5 d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828800" y="3886200"/>
            <a:ext cx="5943600" cy="2743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3080" y="7315200"/>
            <a:ext cx="384120" cy="244440"/>
          </a:xfrm>
          <a:prstGeom prst="roundRect">
            <a:avLst>
              <a:gd name="adj" fmla="val 64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4240" y="6400800"/>
            <a:ext cx="200160" cy="228600"/>
          </a:xfrm>
          <a:custGeom>
            <a:avLst/>
            <a:gdLst>
              <a:gd name="textAreaLeft" fmla="*/ 360 w 200160"/>
              <a:gd name="textAreaRight" fmla="*/ 199800 w 200160"/>
              <a:gd name="textAreaTop" fmla="*/ 360 h 228600"/>
              <a:gd name="textAreaBottom" fmla="*/ 228240 h 228600"/>
            </a:gdLst>
            <a:ahLst/>
            <a:rect l="textAreaLeft" t="textAreaTop" r="textAreaRight" b="textAreaBottom"/>
            <a:pathLst>
              <a:path w="21600" h="24664">
                <a:moveTo>
                  <a:pt x="171" y="0"/>
                </a:moveTo>
                <a:arcTo wR="171" hR="171" stAng="16200000" swAng="-5400000"/>
                <a:lnTo>
                  <a:pt x="0" y="24493"/>
                </a:lnTo>
                <a:arcTo wR="171" hR="171" stAng="10800000" swAng="-5400000"/>
                <a:lnTo>
                  <a:pt x="21429" y="24664"/>
                </a:lnTo>
                <a:arcTo wR="171" hR="171" stAng="5400000" swAng="-5400000"/>
                <a:lnTo>
                  <a:pt x="21600" y="171"/>
                </a:lnTo>
                <a:arcTo wR="171" hR="171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720360"/>
            <a:ext cx="82756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967040"/>
            <a:ext cx="827568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1120" indent="-681120"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596520"/>
                <a:tab algn="l" pos="10053720"/>
                <a:tab algn="l" pos="1051092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Jaime Ochoa ,Richard Mendoza,Adalith pelcastr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7315200"/>
            <a:ext cx="228600" cy="24444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244440"/>
              <a:gd name="textAreaBottom" fmla="*/ 244080 h 244440"/>
            </a:gdLst>
            <a:ahLst/>
            <a:rect l="textAreaLeft" t="textAreaTop" r="textAreaRight" b="textAreaBottom"/>
            <a:pathLst>
              <a:path w="21600" h="23094">
                <a:moveTo>
                  <a:pt x="150" y="0"/>
                </a:moveTo>
                <a:arcTo wR="150" hR="150" stAng="16200000" swAng="-5400000"/>
                <a:lnTo>
                  <a:pt x="0" y="22944"/>
                </a:lnTo>
                <a:arcTo wR="150" hR="150" stAng="10800000" swAng="-5400000"/>
                <a:lnTo>
                  <a:pt x="21450" y="23094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7543800"/>
            <a:ext cx="228600" cy="15840"/>
          </a:xfrm>
          <a:prstGeom prst="roundRect">
            <a:avLst>
              <a:gd name="adj" fmla="val 1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70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ask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answer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kidwiz.c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ww.nationalgeoghaphic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www.hurrican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543800"/>
            <a:ext cx="28440" cy="15840"/>
          </a:xfrm>
          <a:prstGeom prst="roundRect">
            <a:avLst>
              <a:gd name="adj" fmla="val 1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13:53:59Z</dcterms:created>
  <dc:creator/>
  <dc:description>General introduction of a new product taking customer wishes into account</dc:description>
  <dc:language>en-US</dc:language>
  <cp:lastModifiedBy/>
  <cp:revision>1</cp:revision>
  <dc:subject/>
  <dc:title>Introducing a New Product</dc:title>
</cp:coreProperties>
</file>